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jpeg" ContentType="image/jpeg"/>
  <Override PartName="/ppt/media/image3.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4C8E9-3916-4802-BAE0-4B8920418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9BDB5-1C6B-4537-8BF1-EE20A5483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A4137-1085-4EDC-AC6E-241D66EC4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D5B7B-275C-4D13-A409-6426DAFF5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36A52-D2AF-4B27-86B6-97CFE047D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90B4A-E655-47DD-9B6F-0E85C26E8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FDFFF-DF44-426B-B900-A39903865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93509-5D9E-437C-A1EB-1B1C96AF5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3FF2-E2CE-4213-933D-5FABF717A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91C4-FD07-441B-9000-58B2460B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CC20-DB76-4FD1-9FBE-7477B663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8C29-FEEB-4338-946F-76EC26AB5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4851-C941-41E7-89FB-FAA2FA725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92920"/>
          </a:xfrm>
          <a:prstGeom prst="rect">
            <a:avLst/>
          </a:prstGeom>
          <a:ln w="0">
            <a:noFill/>
          </a:ln>
        </p:spPr>
      </p:pic>
      <p:sp>
        <p:nvSpPr>
          <p:cNvPr id="44" name=""/>
          <p:cNvSpPr/>
          <p:nvPr/>
        </p:nvSpPr>
        <p:spPr>
          <a:xfrm>
            <a:off x="228600" y="5410080"/>
            <a:ext cx="396252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Trinucleotide Repeats</a:t>
            </a:r>
            <a:r>
              <a:rPr b="0" lang="en-US" sz="2400" spc="-1" strike="noStrike">
                <a:solidFill>
                  <a:srgbClr val="ffffff"/>
                </a:solidFill>
                <a:latin typeface="Arial"/>
              </a:rPr>
              <a:t> by: Guy, Hannah, Julien and M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EDREICHS ATAXIA</a:t>
            </a:r>
            <a:endParaRPr b="0" lang="en-US" sz="4400" spc="-1" strike="noStrike">
              <a:solidFill>
                <a:srgbClr val="000000"/>
              </a:solidFill>
              <a:latin typeface="Arial"/>
            </a:endParaRPr>
          </a:p>
        </p:txBody>
      </p:sp>
      <p:sp>
        <p:nvSpPr>
          <p:cNvPr id="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t is an inherited disease that causes damage to your nervous system that can later cause speech problems or heart disease.</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result in the loss of nerve tissue in the spinal cord. The spinal cord will become thinner and cause you to be clumsy and have little balance.</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also result in the loss of nerves that control the movement of your arms and legs. </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iedreich’s Ataxia is an autosomal recessive disease caused by the mutation in gene X25.</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 symptoms include:</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Muscle weaknes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Loss of coordination</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Hearing los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Slurred speech</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Scoliosi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Extreme heart conditions</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 people suffering from Friedreich’s Ataxia may require surgery, mainly for the heart and spinal cord. For the spinal cord, a metal rod may be places in the spine to prevent scoliosis.</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earchers are expecting a drug to come out for Friedreich’s Ataxia around spring 2008.</a:t>
            </a:r>
            <a:endParaRPr b="0" lang="en-US" sz="1500" spc="-1" strike="noStrike">
              <a:solidFill>
                <a:srgbClr val="000000"/>
              </a:solidFill>
              <a:latin typeface="Arial"/>
            </a:endParaRPr>
          </a:p>
          <a:p>
            <a:pPr marL="33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0"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914400" y="1294920"/>
            <a:ext cx="6400800" cy="350532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our DNA, it is very common to have a triplet base repeat in which the same triplets are repeated more than once in a strand.</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umber of repeats is too large, it can trigger a problem that results in an identifiable disease.</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epeat is present in a gene, an expansion of the repeat results in a defective gene product and often diseas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nherited diseases are the result of a single difference in the genetic code for a particular protein. </a:t>
            </a:r>
            <a:r>
              <a:rPr b="0" lang="en-US" sz="2400" spc="-1" strike="noStrike">
                <a:solidFill>
                  <a:srgbClr val="000000"/>
                </a:solidFill>
                <a:latin typeface="Arial"/>
              </a:rPr>
              <a:t>A</a:t>
            </a:r>
            <a:r>
              <a:rPr b="0" lang="en-US" sz="2400" spc="-1" strike="noStrike">
                <a:solidFill>
                  <a:srgbClr val="000000"/>
                </a:solidFill>
                <a:latin typeface="Arial"/>
              </a:rPr>
              <a:t>s a result of that difference, either a protein is not made at all, made in inadequate amounts, or made in a defective form.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9144000" cy="6892920"/>
          </a:xfrm>
          <a:prstGeom prst="rect">
            <a:avLst/>
          </a:prstGeom>
          <a:ln w="0">
            <a:noFill/>
          </a:ln>
        </p:spPr>
      </p:pic>
      <p:sp>
        <p:nvSpPr>
          <p:cNvPr id="47" name=""/>
          <p:cNvSpPr/>
          <p:nvPr/>
        </p:nvSpPr>
        <p:spPr>
          <a:xfrm>
            <a:off x="609480" y="228600"/>
            <a:ext cx="7925040" cy="947520"/>
          </a:xfrm>
          <a:prstGeom prst="rect">
            <a:avLst/>
          </a:prstGeom>
          <a:noFill/>
          <a:ln w="0">
            <a:noFill/>
          </a:ln>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Trinucleotide Repeats</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inucleotide Repeats Continued</a:t>
            </a:r>
            <a:endParaRPr b="0" lang="en-US" sz="2800" spc="-1" strike="noStrike">
              <a:solidFill>
                <a:srgbClr val="000000"/>
              </a:solidFill>
              <a:latin typeface="Arial"/>
            </a:endParaRPr>
          </a:p>
        </p:txBody>
      </p:sp>
      <p:sp>
        <p:nvSpPr>
          <p:cNvPr id="49" name="PlaceHolder 2"/>
          <p:cNvSpPr>
            <a:spLocks noGrp="1"/>
          </p:cNvSpPr>
          <p:nvPr>
            <p:ph/>
          </p:nvPr>
        </p:nvSpPr>
        <p:spPr>
          <a:xfrm>
            <a:off x="-838080" y="1981080"/>
            <a:ext cx="5333760" cy="4114800"/>
          </a:xfrm>
          <a:prstGeom prst="rect">
            <a:avLst/>
          </a:prstGeom>
          <a:noFill/>
          <a:ln w="0">
            <a:noFill/>
          </a:ln>
        </p:spPr>
        <p:txBody>
          <a:bodyPr lIns="90000" rIns="90000" tIns="46800" bIns="46800" anchor="t">
            <a:normAutofit/>
          </a:bodyPr>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common repeat is CAG which codes for Glutamine. 8 of the 14 trinucleotide repeat diseases possess this repeat and are called polyglutamine, and the other 6 who don’t have this repeat, are called non- polyglutamin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nucleotide repeat disorders generally show genetic anticipation, where their severity increases with each successive generation that inherits them.</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nucleotide repeat disorders are the result of extensive duplication of a single codon. In fact, the cause is trinucleotide expansion up to a repeat number above a certain threshold level.</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sion of trinucleotide repeats is now recognized as a major cause of neurological diseas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 descr=""/>
          <p:cNvPicPr/>
          <p:nvPr/>
        </p:nvPicPr>
        <p:blipFill>
          <a:blip r:embed="rId1"/>
          <a:stretch/>
        </p:blipFill>
        <p:spPr>
          <a:xfrm>
            <a:off x="4419720" y="2057400"/>
            <a:ext cx="4724280" cy="4114800"/>
          </a:xfrm>
          <a:prstGeom prst="rect">
            <a:avLst/>
          </a:prstGeom>
          <a:ln w="0">
            <a:noFill/>
          </a:ln>
        </p:spPr>
      </p:pic>
      <p:pic>
        <p:nvPicPr>
          <p:cNvPr id="51" name="" descr=""/>
          <p:cNvPicPr/>
          <p:nvPr/>
        </p:nvPicPr>
        <p:blipFill>
          <a:blip r:embed="rId2"/>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TINGTONS DISEASE</a:t>
            </a:r>
            <a:endParaRPr b="0" lang="en-US" sz="4400" spc="-1" strike="noStrike">
              <a:solidFill>
                <a:srgbClr val="000000"/>
              </a:solidFill>
              <a:latin typeface="Arial"/>
            </a:endParaRPr>
          </a:p>
        </p:txBody>
      </p:sp>
      <p:sp>
        <p:nvSpPr>
          <p:cNvPr id="53" name="PlaceHolder 2"/>
          <p:cNvSpPr>
            <a:spLocks noGrp="1"/>
          </p:cNvSpPr>
          <p:nvPr>
            <p:ph/>
          </p:nvPr>
        </p:nvSpPr>
        <p:spPr>
          <a:xfrm>
            <a:off x="380880" y="1143000"/>
            <a:ext cx="3810240" cy="586728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out of the 14 documented trinucleotide repeat disorders; 1 of several polyglutamine diseases</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trinucleotide repeat in Huntington’s disease is the CAG repeat. Patients with the CAG repeat in the Huntingtin gene who have Huntington’s disease have repeat lengths between 39-70 repeats. A normal chromosome only has 9 to 30 CAG's.</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repetition produces an altered form of the Htt protein</a:t>
            </a:r>
            <a:r>
              <a:rPr b="1" lang="en-US" sz="1900" spc="-1" strike="noStrike">
                <a:solidFill>
                  <a:srgbClr val="000000"/>
                </a:solidFill>
                <a:latin typeface="Arial"/>
              </a:rPr>
              <a:t>, mutant Huntingtin</a:t>
            </a:r>
            <a:r>
              <a:rPr b="0" lang="en-US" sz="1900" spc="-1" strike="noStrike">
                <a:solidFill>
                  <a:srgbClr val="000000"/>
                </a:solidFill>
                <a:latin typeface="Arial"/>
              </a:rPr>
              <a:t> which results in neuronal cell death in select areas of the brain and is a terminal illness.</a:t>
            </a:r>
            <a:endParaRPr b="0" lang="en-US" sz="1900" spc="-1" strike="noStrike">
              <a:solidFill>
                <a:srgbClr val="000000"/>
              </a:solidFill>
              <a:latin typeface="Arial"/>
            </a:endParaRPr>
          </a:p>
        </p:txBody>
      </p:sp>
      <p:pic>
        <p:nvPicPr>
          <p:cNvPr id="54" name="" descr=""/>
          <p:cNvPicPr/>
          <p:nvPr/>
        </p:nvPicPr>
        <p:blipFill>
          <a:blip r:embed="rId1"/>
          <a:stretch/>
        </p:blipFill>
        <p:spPr>
          <a:xfrm>
            <a:off x="0" y="0"/>
            <a:ext cx="9144000" cy="6892920"/>
          </a:xfrm>
          <a:prstGeom prst="rect">
            <a:avLst/>
          </a:prstGeom>
          <a:ln w="0">
            <a:noFill/>
          </a:ln>
        </p:spPr>
      </p:pic>
      <p:pic>
        <p:nvPicPr>
          <p:cNvPr id="55" name="" descr=""/>
          <p:cNvPicPr/>
          <p:nvPr/>
        </p:nvPicPr>
        <p:blipFill>
          <a:blip r:embed="rId2"/>
          <a:stretch/>
        </p:blipFill>
        <p:spPr>
          <a:xfrm>
            <a:off x="4648320" y="1523880"/>
            <a:ext cx="31366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TINGTONS CON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Huntingtin protein is found in most neurons throughout the brain, these neurons become infected and start a process of cell death. Once enough cells die within the brain, Huntington’s disease occ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Loss of facial expression (called "masks in movement") or exaggerated facial gestures, ability to sit or stand stably, speech, chewing and swallowing. Eventually, it leads to an inability to walk, talk and eat. Death occurs generally 10- 30 years after the first sign of sympt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1 in every 10,000 Americans have Huntington’s disease, with about 150,000 at risk of inheriting it from a par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there is no cure, but symptoms are managed by using med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yotonic Dystrophy</a:t>
            </a:r>
            <a:endParaRPr b="0" lang="en-US" sz="4400" spc="-1" strike="noStrike">
              <a:solidFill>
                <a:srgbClr val="000000"/>
              </a:solidFill>
              <a:latin typeface="Arial"/>
            </a:endParaRPr>
          </a:p>
        </p:txBody>
      </p:sp>
      <p:sp>
        <p:nvSpPr>
          <p:cNvPr id="59" name="PlaceHolder 2"/>
          <p:cNvSpPr>
            <a:spLocks noGrp="1"/>
          </p:cNvSpPr>
          <p:nvPr>
            <p:ph type="subTitle"/>
          </p:nvPr>
        </p:nvSpPr>
        <p:spPr>
          <a:xfrm>
            <a:off x="1371600" y="1980720"/>
            <a:ext cx="6400800" cy="3962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otonic Dystrophy is a severe inherent form of muscular deficiency where weakness and decomposition of the muscle occurs.  This is often characterized by mental retardation or the difficulty of movement of limbs.</a:t>
            </a:r>
            <a:endParaRPr b="0" lang="en-US" sz="3200" spc="-1" strike="noStrike">
              <a:solidFill>
                <a:srgbClr val="000000"/>
              </a:solidFill>
              <a:latin typeface="Arial"/>
            </a:endParaRPr>
          </a:p>
          <a:p>
            <a:pPr lvl="2" marL="9144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1"/>
          <a:stretch/>
        </p:blipFill>
        <p:spPr>
          <a:xfrm>
            <a:off x="0" y="-34920"/>
            <a:ext cx="9144000" cy="6892920"/>
          </a:xfrm>
          <a:prstGeom prst="rect">
            <a:avLst/>
          </a:prstGeom>
          <a:ln w="0">
            <a:noFill/>
          </a:ln>
        </p:spPr>
      </p:pic>
      <p:pic>
        <p:nvPicPr>
          <p:cNvPr id="61" name="" descr=""/>
          <p:cNvPicPr/>
          <p:nvPr/>
        </p:nvPicPr>
        <p:blipFill>
          <a:blip r:embed="rId2"/>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 SILENCING</a:t>
            </a:r>
            <a:br>
              <a:rPr sz="4000"/>
            </a:br>
            <a:r>
              <a:rPr b="0" lang="en-US" sz="4000" spc="-1" strike="noStrike">
                <a:solidFill>
                  <a:srgbClr val="000000"/>
                </a:solidFill>
                <a:latin typeface="Arial"/>
              </a:rPr>
              <a:t>Discovered</a:t>
            </a:r>
            <a:endParaRPr b="0" lang="en-US" sz="40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ene silencing is the method used to “silence” or block out of specific sequences of DNA or RNA, used to help prevent or treat diseases and also serves other purpos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2003 Andy Fire of the Carnegie Institute of Washington and Craig Mello of the University of Massachusetts realized they could prevent a gene from being expressed by injecting or feeding the animal (nematode worms in this case) a double stranded RNA that corresponds to the worm’s DNA gene they are trying to silence</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64"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 SILENCING</a:t>
            </a:r>
            <a:br>
              <a:rPr sz="4000"/>
            </a:br>
            <a:r>
              <a:rPr b="0" lang="en-US" sz="4000" spc="-1" strike="noStrike">
                <a:solidFill>
                  <a:srgbClr val="000000"/>
                </a:solidFill>
                <a:latin typeface="Arial"/>
              </a:rPr>
              <a:t>Process 4 Steps</a:t>
            </a:r>
            <a:endParaRPr b="0" lang="en-US" sz="40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scientist insert a double-stranded RNA into a cell, one of the strands of that RNA contains the identical sequence of bases to the gene that the scientist wants to silence (for now we will call it code 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because cells should only have single-stranded RNA the cell identifies the double-stranded RNA as an intru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1143000" y="4343400"/>
            <a:ext cx="175248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1523880" y="46483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69" name=""/>
          <p:cNvSpPr/>
          <p:nvPr/>
        </p:nvSpPr>
        <p:spPr>
          <a:xfrm>
            <a:off x="2568600" y="4702320"/>
            <a:ext cx="1030320" cy="363240"/>
          </a:xfrm>
          <a:custGeom>
            <a:avLst/>
            <a:gdLst/>
            <a:ahLst/>
            <a:rect l="l" t="t" r="r" b="b"/>
            <a:pathLst>
              <a:path w="649" h="229">
                <a:moveTo>
                  <a:pt x="649" y="46"/>
                </a:moveTo>
                <a:cubicBezTo>
                  <a:pt x="633" y="96"/>
                  <a:pt x="624" y="164"/>
                  <a:pt x="585" y="201"/>
                </a:cubicBezTo>
                <a:cubicBezTo>
                  <a:pt x="573" y="195"/>
                  <a:pt x="557" y="194"/>
                  <a:pt x="549" y="183"/>
                </a:cubicBezTo>
                <a:cubicBezTo>
                  <a:pt x="533" y="161"/>
                  <a:pt x="511" y="69"/>
                  <a:pt x="503" y="46"/>
                </a:cubicBezTo>
                <a:cubicBezTo>
                  <a:pt x="500" y="37"/>
                  <a:pt x="503" y="22"/>
                  <a:pt x="494" y="19"/>
                </a:cubicBezTo>
                <a:cubicBezTo>
                  <a:pt x="485" y="16"/>
                  <a:pt x="476" y="12"/>
                  <a:pt x="467" y="9"/>
                </a:cubicBezTo>
                <a:cubicBezTo>
                  <a:pt x="398" y="44"/>
                  <a:pt x="398" y="95"/>
                  <a:pt x="375" y="165"/>
                </a:cubicBezTo>
                <a:cubicBezTo>
                  <a:pt x="362" y="205"/>
                  <a:pt x="369" y="216"/>
                  <a:pt x="329" y="229"/>
                </a:cubicBezTo>
                <a:cubicBezTo>
                  <a:pt x="296" y="212"/>
                  <a:pt x="282" y="199"/>
                  <a:pt x="256" y="174"/>
                </a:cubicBezTo>
                <a:cubicBezTo>
                  <a:pt x="236" y="133"/>
                  <a:pt x="232" y="99"/>
                  <a:pt x="220" y="55"/>
                </a:cubicBezTo>
                <a:cubicBezTo>
                  <a:pt x="215" y="36"/>
                  <a:pt x="201" y="0"/>
                  <a:pt x="201" y="0"/>
                </a:cubicBezTo>
                <a:cubicBezTo>
                  <a:pt x="118" y="14"/>
                  <a:pt x="135" y="17"/>
                  <a:pt x="83" y="92"/>
                </a:cubicBezTo>
                <a:cubicBezTo>
                  <a:pt x="72" y="108"/>
                  <a:pt x="28" y="110"/>
                  <a:pt x="28" y="110"/>
                </a:cubicBezTo>
                <a:cubicBezTo>
                  <a:pt x="6" y="131"/>
                  <a:pt x="15" y="122"/>
                  <a:pt x="0"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568600" y="4683240"/>
            <a:ext cx="1089000" cy="425160"/>
          </a:xfrm>
          <a:custGeom>
            <a:avLst/>
            <a:gdLst/>
            <a:ahLst/>
            <a:rect l="l" t="t" r="r" b="b"/>
            <a:pathLst>
              <a:path w="686" h="268">
                <a:moveTo>
                  <a:pt x="686" y="113"/>
                </a:moveTo>
                <a:cubicBezTo>
                  <a:pt x="680" y="132"/>
                  <a:pt x="655" y="235"/>
                  <a:pt x="631" y="250"/>
                </a:cubicBezTo>
                <a:cubicBezTo>
                  <a:pt x="615" y="260"/>
                  <a:pt x="576" y="268"/>
                  <a:pt x="576" y="268"/>
                </a:cubicBezTo>
                <a:cubicBezTo>
                  <a:pt x="550" y="190"/>
                  <a:pt x="588" y="80"/>
                  <a:pt x="494" y="49"/>
                </a:cubicBezTo>
                <a:cubicBezTo>
                  <a:pt x="464" y="52"/>
                  <a:pt x="432" y="48"/>
                  <a:pt x="403" y="58"/>
                </a:cubicBezTo>
                <a:cubicBezTo>
                  <a:pt x="394" y="61"/>
                  <a:pt x="396" y="76"/>
                  <a:pt x="393" y="85"/>
                </a:cubicBezTo>
                <a:cubicBezTo>
                  <a:pt x="384" y="113"/>
                  <a:pt x="382" y="144"/>
                  <a:pt x="366" y="168"/>
                </a:cubicBezTo>
                <a:cubicBezTo>
                  <a:pt x="344" y="201"/>
                  <a:pt x="315" y="226"/>
                  <a:pt x="293" y="259"/>
                </a:cubicBezTo>
                <a:cubicBezTo>
                  <a:pt x="278" y="256"/>
                  <a:pt x="260" y="259"/>
                  <a:pt x="247" y="250"/>
                </a:cubicBezTo>
                <a:cubicBezTo>
                  <a:pt x="239" y="245"/>
                  <a:pt x="239" y="232"/>
                  <a:pt x="238" y="223"/>
                </a:cubicBezTo>
                <a:cubicBezTo>
                  <a:pt x="233" y="162"/>
                  <a:pt x="234" y="101"/>
                  <a:pt x="229" y="40"/>
                </a:cubicBezTo>
                <a:cubicBezTo>
                  <a:pt x="228" y="30"/>
                  <a:pt x="228" y="17"/>
                  <a:pt x="220" y="12"/>
                </a:cubicBezTo>
                <a:cubicBezTo>
                  <a:pt x="207" y="3"/>
                  <a:pt x="189" y="6"/>
                  <a:pt x="174" y="3"/>
                </a:cubicBezTo>
                <a:cubicBezTo>
                  <a:pt x="116" y="9"/>
                  <a:pt x="75" y="0"/>
                  <a:pt x="37" y="40"/>
                </a:cubicBezTo>
                <a:cubicBezTo>
                  <a:pt x="28" y="68"/>
                  <a:pt x="12" y="7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1909080" y="579132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stranded RNA</a:t>
            </a:r>
            <a:endParaRPr b="0" lang="en-US" sz="2400" spc="-1" strike="noStrike">
              <a:solidFill>
                <a:srgbClr val="000000"/>
              </a:solidFill>
              <a:latin typeface="Arial"/>
            </a:endParaRPr>
          </a:p>
        </p:txBody>
      </p:sp>
      <p:sp>
        <p:nvSpPr>
          <p:cNvPr id="72" name=""/>
          <p:cNvSpPr/>
          <p:nvPr/>
        </p:nvSpPr>
        <p:spPr>
          <a:xfrm>
            <a:off x="3200400" y="5105520"/>
            <a:ext cx="3049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1374840" y="6172200"/>
            <a:ext cx="41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desired sequence</a:t>
            </a:r>
            <a:endParaRPr b="0" lang="en-US" sz="2400" spc="-1" strike="noStrike">
              <a:solidFill>
                <a:srgbClr val="000000"/>
              </a:solidFill>
              <a:latin typeface="Arial"/>
            </a:endParaRPr>
          </a:p>
        </p:txBody>
      </p:sp>
      <p:pic>
        <p:nvPicPr>
          <p:cNvPr id="74"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 SILENCING </a:t>
            </a:r>
            <a:br>
              <a:rPr sz="4400"/>
            </a:br>
            <a:r>
              <a:rPr b="0" lang="en-US" sz="4400" spc="-1" strike="noStrike">
                <a:solidFill>
                  <a:srgbClr val="000000"/>
                </a:solidFill>
                <a:latin typeface="Arial"/>
              </a:rPr>
              <a:t>Process Con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it is the Dicer enzyme’s job to get rid of this intruder RNA strand and then goes after the double-stranded RNA, however, when it does this, because one of the stands in the double-stranded RNA codes for the gene that is desired to be silent (code X), and there is an identical code for that same gene in the cell’s original mRNA (also code X), the Dicer enzyme recognizes both code Xs as intruders and destroys the double-stranded RNA along with the code X portion of the cell’s original mR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because the Dice enzyme destroyed the code X in the cell’s mRNA code X will no longer be translated through protein synthesis and will not code to make the undesired protein, and therefore it will never be express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16:21:36Z</dcterms:created>
  <dc:creator>LMSD LMSD</dc:creator>
  <dc:description/>
  <dc:language>en-US</dc:language>
  <cp:lastModifiedBy>Marie Scearce</cp:lastModifiedBy>
  <dcterms:modified xsi:type="dcterms:W3CDTF">2008-04-01T14:39:10Z</dcterms:modified>
  <cp:revision>10</cp:revision>
  <dc:subject/>
  <dc:title>Myotonic Dystrophy</dc:title>
</cp:coreProperties>
</file>